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8FD-7602-4A43-8D08-2DE8F03C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BCA-B12C-4B7B-9FFE-5DB52A7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5A5-AF5E-4BC8-BEB8-52F79D5C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60C-7821-44BA-9439-62498406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34C-F8E6-40D6-90EA-E2C5335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153-E35F-4F38-BB2D-6F8041BC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5C2-4000-4B08-B125-2070B00B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107A-876C-44AC-AC04-64E6D057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672-9706-48AE-A8C7-456B29C8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3D4-BD35-4FE6-AEF8-2129DB3F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480-B534-4CB1-8896-BB59F45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203-5F20-4A7E-9DD5-3DC4DA4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9396-0C5B-41D2-9DD6-67C2892B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6520" y="1591200"/>
            <a:ext cx="7988040" cy="2485440"/>
            <a:chOff x="236520" y="1591200"/>
            <a:chExt cx="7988040" cy="2485440"/>
          </a:xfrm>
        </p:grpSpPr>
        <p:cxnSp>
          <p:nvCxnSpPr>
            <p:cNvPr id="42" name="_s2086"/>
            <p:cNvCxnSpPr>
              <a:stCxn id="43" idx="1"/>
              <a:endCxn id="44" idx="2"/>
            </p:cNvCxnSpPr>
            <p:nvPr/>
          </p:nvCxnSpPr>
          <p:spPr>
            <a:xfrm rot="10800000">
              <a:off x="4835160" y="3367440"/>
              <a:ext cx="224640" cy="45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81"/>
            <p:cNvCxnSpPr>
              <a:stCxn id="46" idx="1"/>
              <a:endCxn id="47" idx="2"/>
            </p:cNvCxnSpPr>
            <p:nvPr/>
          </p:nvCxnSpPr>
          <p:spPr>
            <a:xfrm rot="10800000">
              <a:off x="2715120" y="3367440"/>
              <a:ext cx="224640" cy="458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207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997960" y="2543040"/>
              <a:ext cx="207720" cy="613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76"/>
            <p:cNvCxnSpPr>
              <a:stCxn id="44" idx="0"/>
              <a:endCxn id="50" idx="2"/>
            </p:cNvCxnSpPr>
            <p:nvPr/>
          </p:nvCxnSpPr>
          <p:spPr>
            <a:xfrm flipH="1" flipV="1" rot="5400000">
              <a:off x="5211360" y="2370240"/>
              <a:ext cx="207720" cy="95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2070"/>
            <p:cNvCxnSpPr>
              <a:stCxn id="47" idx="0"/>
              <a:endCxn id="53" idx="2"/>
            </p:cNvCxnSpPr>
            <p:nvPr/>
          </p:nvCxnSpPr>
          <p:spPr>
            <a:xfrm flipV="1" rot="16200000">
              <a:off x="2523600" y="2761560"/>
              <a:ext cx="207720" cy="176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064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737000" y="2151360"/>
              <a:ext cx="207720" cy="1397160"/>
            </a:xfrm>
            <a:prstGeom prst="bentConnector5">
              <a:avLst>
                <a:gd name="adj1" fmla="val 111979"/>
                <a:gd name="adj2" fmla="val -64845"/>
                <a:gd name="adj3" fmla="val -3114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060"/>
            <p:cNvCxnSpPr>
              <a:stCxn id="57" idx="0"/>
              <a:endCxn id="58" idx="2"/>
            </p:cNvCxnSpPr>
            <p:nvPr/>
          </p:nvCxnSpPr>
          <p:spPr>
            <a:xfrm flipV="1" rot="16200000">
              <a:off x="5814360" y="537840"/>
              <a:ext cx="208080" cy="3143160"/>
            </a:xfrm>
            <a:prstGeom prst="bentConnector5">
              <a:avLst>
                <a:gd name="adj1" fmla="val 111438"/>
                <a:gd name="adj2" fmla="val 49896"/>
                <a:gd name="adj3" fmla="val -114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059"/>
            <p:cNvCxnSpPr>
              <a:stCxn id="50" idx="0"/>
              <a:endCxn id="58" idx="2"/>
            </p:cNvCxnSpPr>
            <p:nvPr/>
          </p:nvCxnSpPr>
          <p:spPr>
            <a:xfrm flipV="1" rot="16200000">
              <a:off x="4966920" y="1384920"/>
              <a:ext cx="208080" cy="1448640"/>
            </a:xfrm>
            <a:prstGeom prst="bentConnector5">
              <a:avLst>
                <a:gd name="adj1" fmla="val 111438"/>
                <a:gd name="adj2" fmla="val -66766"/>
                <a:gd name="adj3" fmla="val -368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58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3338640" y="1205640"/>
              <a:ext cx="208080" cy="1807920"/>
            </a:xfrm>
            <a:prstGeom prst="bentConnector5">
              <a:avLst>
                <a:gd name="adj1" fmla="val 111438"/>
                <a:gd name="adj2" fmla="val -53475"/>
                <a:gd name="adj3" fmla="val -3682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2054"/>
            <p:cNvSpPr/>
            <p:nvPr/>
          </p:nvSpPr>
          <p:spPr>
            <a:xfrm>
              <a:off x="3605400" y="1591200"/>
              <a:ext cx="148248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est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055"/>
            <p:cNvSpPr/>
            <p:nvPr/>
          </p:nvSpPr>
          <p:spPr>
            <a:xfrm>
              <a:off x="1804320" y="2213280"/>
              <a:ext cx="146988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ickl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alcium oxi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6"/>
            <p:cNvSpPr/>
            <p:nvPr/>
          </p:nvSpPr>
          <p:spPr>
            <a:xfrm>
              <a:off x="5059800" y="2213280"/>
              <a:ext cx="147024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u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57"/>
            <p:cNvSpPr/>
            <p:nvPr/>
          </p:nvSpPr>
          <p:spPr>
            <a:xfrm>
              <a:off x="6754680" y="2213280"/>
              <a:ext cx="1469880" cy="532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ilding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063"/>
            <p:cNvSpPr/>
            <p:nvPr/>
          </p:nvSpPr>
          <p:spPr>
            <a:xfrm>
              <a:off x="468360" y="2953440"/>
              <a:ext cx="134820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chemic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069"/>
            <p:cNvSpPr/>
            <p:nvPr/>
          </p:nvSpPr>
          <p:spPr>
            <a:xfrm>
              <a:off x="2041560" y="2953440"/>
              <a:ext cx="134784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d wa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2075"/>
            <p:cNvSpPr/>
            <p:nvPr/>
          </p:nvSpPr>
          <p:spPr>
            <a:xfrm>
              <a:off x="4161600" y="2953440"/>
              <a:ext cx="134784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wd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2077"/>
            <p:cNvSpPr/>
            <p:nvPr/>
          </p:nvSpPr>
          <p:spPr>
            <a:xfrm>
              <a:off x="5734440" y="2953440"/>
              <a:ext cx="1348200" cy="414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st fur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80"/>
            <p:cNvSpPr/>
            <p:nvPr/>
          </p:nvSpPr>
          <p:spPr>
            <a:xfrm>
              <a:off x="2939760" y="3575520"/>
              <a:ext cx="1670040" cy="50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aked l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alcium hydroxi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85"/>
            <p:cNvSpPr/>
            <p:nvPr/>
          </p:nvSpPr>
          <p:spPr>
            <a:xfrm>
              <a:off x="5059800" y="3575520"/>
              <a:ext cx="1670040" cy="50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Gl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835280" y="1773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ushed into lumps and H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5331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8000" y="1700280"/>
            <a:ext cx="352440" cy="65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8360" y="2781360"/>
            <a:ext cx="709920" cy="50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95280" y="2421000"/>
            <a:ext cx="512640" cy="619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4360" y="4365720"/>
            <a:ext cx="863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07664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alise acid soil and sewage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203640" y="2781360"/>
            <a:ext cx="368280" cy="43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003640" y="1628640"/>
            <a:ext cx="936720" cy="31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105264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has many uses, ranging from building stone to being made into slaked lime and neutralising acid soils in farming.  Look at the diagram and answer the questions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4653000"/>
            <a:ext cx="7632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estone is very useful and made into many different thing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cribe three things that must be done to limestone to make calc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does limestone help to make in a blast furn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Name two uses of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Name three other uses of 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213000"/>
            <a:ext cx="12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estone helps to make pur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 the blast furn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71640" y="404640"/>
            <a:ext cx="70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ant uses of limest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4005360"/>
            <a:ext cx="14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estone is added to sand to make g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85080" y="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.4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659640" y="3500280"/>
            <a:ext cx="4348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7:42:00Z</dcterms:created>
  <dc:creator>Education IT</dc:creator>
  <dc:description/>
  <dc:language>en-US</dc:language>
  <cp:lastModifiedBy>Education IT</cp:lastModifiedBy>
  <dcterms:modified xsi:type="dcterms:W3CDTF">2004-01-31T08:44:36Z</dcterms:modified>
  <cp:revision>6</cp:revision>
  <dc:subject/>
  <dc:title>Slide 1</dc:title>
</cp:coreProperties>
</file>